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47B4-A966-4171-A0AC-72611ECC5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79D8-1DF7-4220-8E54-244B25B31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891-4683-4CF4-BB42-79580054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B35-407D-4629-8287-F4CD038D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B1B-826C-4F9E-9FFA-75BA6D18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ACF-22A7-4C9A-B246-7340B05F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628-D186-44FB-9233-14A3FD0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A6D-D68C-4ECD-96FB-8B779EC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1B7-1C7E-4480-9860-D401A361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F17-1D89-469E-87C4-CF454D68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5AB-4A52-4FA8-8BCD-004A840F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0FC-7061-48CC-A7BF-CF51E14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471-4A63-4ED0-AF80-F96C2D1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E01-308A-48ED-93C8-9056CB8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710D-36E1-4427-801B-4DC72ED9C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543400">
            <a:off x="426960" y="2057760"/>
            <a:ext cx="4145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77933c"/>
                </a:solidFill>
                <a:latin typeface="Calibri"/>
              </a:rPr>
              <a:t>Maria </a:t>
            </a:r>
            <a:br>
              <a:rPr sz="4800"/>
            </a:br>
            <a:r>
              <a:rPr b="0" i="1" lang="en-US" sz="4800" spc="-1" strike="noStrike">
                <a:solidFill>
                  <a:srgbClr val="77933c"/>
                </a:solidFill>
                <a:latin typeface="Calibri"/>
              </a:rPr>
              <a:t>    Reyes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24280" y="3123720"/>
            <a:ext cx="3810240" cy="3429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4f81bd">
                <a:alpha val="0"/>
              </a:srgbClr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77933c"/>
                </a:solidFill>
                <a:latin typeface="Calibri"/>
              </a:rPr>
              <a:t>Bir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Born: April 15,19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Place: Dajabon, Dominican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933c"/>
                </a:solidFill>
                <a:latin typeface="Calibri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 was raised in the Dominican Republic until I was seven years old.  I came and have stayed in the United States since then. I grew up in Lawrence, MA and have been living in the same street for several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7933c"/>
                </a:solidFill>
                <a:latin typeface="Calibri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Mother: Alejandrina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Father: Ignacio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Sister: Alejandra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Brother: Raldy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Son: Yoelvis Tor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20275800">
            <a:off x="5037120" y="1324080"/>
            <a:ext cx="1205280" cy="10785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802800">
            <a:off x="978840" y="3993840"/>
            <a:ext cx="1727640" cy="12999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56ViKy170303-01.jpg"/>
          <p:cNvPicPr/>
          <p:nvPr/>
        </p:nvPicPr>
        <p:blipFill>
          <a:blip r:embed="rId3"/>
          <a:stretch/>
        </p:blipFill>
        <p:spPr>
          <a:xfrm>
            <a:off x="6394320" y="4108320"/>
            <a:ext cx="2371680" cy="23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7933c"/>
                </a:solidFill>
                <a:latin typeface="Calibri"/>
              </a:rPr>
              <a:t>Persona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 graduated from Lawrence High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Have an Associate Degree on Buss. Adminis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Work at RiverBank (SR. Customer Service As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9 Jackson 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Methuen, MA 018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training\Local Settings\Temporary Internet Files\Content.IE5\8FB6U2SS\MC900154518[1].wmf"/>
          <p:cNvPicPr/>
          <p:nvPr/>
        </p:nvPicPr>
        <p:blipFill>
          <a:blip r:embed="rId1"/>
          <a:stretch/>
        </p:blipFill>
        <p:spPr>
          <a:xfrm>
            <a:off x="6781680" y="4800600"/>
            <a:ext cx="1797120" cy="181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training\Local Settings\Temporary Internet Files\Content.IE5\8FB6U2SS\MC900154518[1].wmf"/>
          <p:cNvPicPr/>
          <p:nvPr/>
        </p:nvPicPr>
        <p:blipFill>
          <a:blip r:embed="rId2"/>
          <a:stretch/>
        </p:blipFill>
        <p:spPr>
          <a:xfrm rot="888000">
            <a:off x="6705360" y="4723920"/>
            <a:ext cx="179676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4475160" y="2962440"/>
            <a:ext cx="193680" cy="17683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4" descr=""/>
          <p:cNvPicPr/>
          <p:nvPr/>
        </p:nvPicPr>
        <p:blipFill>
          <a:blip r:embed="rId2"/>
          <a:stretch/>
        </p:blipFill>
        <p:spPr>
          <a:xfrm>
            <a:off x="-158760" y="291960"/>
            <a:ext cx="6218280" cy="3578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training\Local Settings\Temporary Internet Files\Content.IE5\8FB6U2SS\MC900093373[1].wmf"/>
          <p:cNvPicPr/>
          <p:nvPr/>
        </p:nvPicPr>
        <p:blipFill>
          <a:blip r:embed="rId4"/>
          <a:stretch/>
        </p:blipFill>
        <p:spPr>
          <a:xfrm>
            <a:off x="4343400" y="2819520"/>
            <a:ext cx="413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8:43:30Z</dcterms:created>
  <dc:creator>training</dc:creator>
  <dc:description/>
  <dc:language>en-US</dc:language>
  <cp:lastModifiedBy>training</cp:lastModifiedBy>
  <dcterms:modified xsi:type="dcterms:W3CDTF">2011-02-05T20:09:51Z</dcterms:modified>
  <cp:revision>9</cp:revision>
  <dc:subject/>
  <dc:title>Slide 1</dc:title>
</cp:coreProperties>
</file>